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B436-E943-4727-87D7-586A17A761FE}" type="datetime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25360" y="684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CB5A-6AAF-4CAB-BC60-895FAA2FC15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F2C6-C944-401E-9BC3-DDCE41E4BE9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99F2-98A4-4216-A683-3D79F6351D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D9B2-A8CC-415B-9E32-BF330E96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8286-D6E9-4742-BA8D-0A56B6A8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FEDE-3235-4A44-9530-6D5FF21DB2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D973-4A99-49D2-972E-08DD7FB4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11D3-199A-4EF8-862A-D577C6D6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DCFA-5BBE-4EDE-BF1F-08A83AE1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6684-A3AC-4910-A2CB-42149CA3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260280"/>
            <a:ext cx="80773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111E-ED6F-4FBD-9259-833B86AFA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C2B0-0A9E-430E-AC10-AFC3AA44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4AF5-351E-43F5-81B3-38A8A73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161C-BA76-4239-B3AF-DEE1964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19640" y="6549840"/>
            <a:ext cx="21333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4B50-C473-4D04-A118-8B56A37E1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9528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718-95CF-4E5A-B945-4555E345072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镇静催眠药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ab1101"/>
              </a:solidFill>
              <a:latin typeface="Verdana"/>
              <a:ea typeface="宋体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抗惊厥和抗癫痫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9080" y="2103120"/>
            <a:ext cx="3456000" cy="31669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惊厥作用较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病灶异常放电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外扩散，而不能消除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灶的异常放电；其作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质的抑制效应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4859280" y="2133720"/>
            <a:ext cx="3384720" cy="3168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抗癫痫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对癫痫大发作的疗效好，静注安定是治疗癫痫持续状态的首选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中枢骨骼肌松弛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9080" y="210348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肌松作用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较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抑制脑干网状结构下行激活系统对脊髓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动神经元的激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增强脊髓突触前抑制，而不影响突触后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，从而抑制多突触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其他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58720" y="1598760"/>
            <a:ext cx="8142480" cy="244944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麻醉药的抑制作用，临床用于麻醉前给药，优于吗啡和氯丙嗪，不良反应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加强巴比妥类和酒精的抑制作用，与巴比妥类合用使镇静催眠作用增强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因有镇静催眠和引起暂时记忆缺失，临床常用于心脏电击复律和内窥镜检查前用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539640" y="4508640"/>
            <a:ext cx="8137800" cy="138168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治疗量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心血管系统无明显影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尤其是静脉注射时，可使心率加快，心搏出量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少，血压轻度降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30000" y="2319480"/>
            <a:ext cx="8064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焦虑症、焦虑性抑郁、各种躯体 疾病如脑血管病等疾病引起的焦虑状态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spcAft>
                <a:spcPts val="1749"/>
              </a:spcAft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用药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周后见效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疗效明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常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氯氮卓、奥沙西泮、阿普唑仑、劳拉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905280" y="14619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抗焦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4000" y="227664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各种原因引起的失眠有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入睡困难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选用半衰期短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如三唑仑、阿普唑仑、舒宁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早醒者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可选用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的，如硝基安定、氟安定、氯硝安定、舒乐安定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）防止产生药物依赖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应间断用药或交替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75192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宋体"/>
              </a:rPr>
              <a:t>．治疗失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2421000"/>
            <a:ext cx="83595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选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地西泮、硝西泮、阿普唑仑、氯硝西泮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癫痫大发作或持续状态：可立即静脉注射地西泮或肌内注射氯硝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3303360" y="126828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抗惊厥及抗癫痫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720" y="2750760"/>
            <a:ext cx="73515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用地西泮，术前服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劳拉西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0 m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283920" y="148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．麻醉前用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四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毒性小，安全性大，很少由于用量过大引起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治疗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常见的不良反应有轻度头晕、乏力、困倦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大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可导致共济失调、意识障碍、口齿不清、精神错乱严重时可引起昏迷及呼吸抑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其他常见的不良反应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口干、腹泻、便秘、视力模糊等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宜静脉推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易形成静脉炎或静脉血栓，可从输液管内缓慢推入，一次量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 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量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m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以免呼吸抑制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2720" y="1453680"/>
            <a:ext cx="835164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易产生耐受性和依赖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不仅有精神依赖，也有躯体依赖，一旦停药即产生戒断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925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一般在连续用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月即可产生，戒断症状多在停药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天发生。为防止发生戒断症状，要逐渐减药，不可突然停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5164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281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地西泮长期应用可引起畸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孕妇禁用。在分娩前及分娩时，如服用大剂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药物，可引起新生儿体温下降，肌力下降及呼吸抑制，甚至产生戒断症状。因此，孕妇及产妇均不可长期滥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类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11280" y="206064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掌握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苯二氮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卓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物的药理作用、临床应用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良反应和药疗监护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熟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巴比妥类药物的作用特点、临床应用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反应和药疗监护事项、急性中毒的解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了解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镇静催眠药的作用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表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2-1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常用苯二氮䓬类药物和用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9280" y="720720"/>
          <a:ext cx="8856720" cy="5891040"/>
        </p:xfrm>
        <a:graphic>
          <a:graphicData uri="http://schemas.openxmlformats.org/drawingml/2006/table">
            <a:tbl>
              <a:tblPr/>
              <a:tblGrid>
                <a:gridCol w="3148200"/>
                <a:gridCol w="57085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剂量和用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地西泮（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癫痫持续状态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缓慢静注，再发作可反复应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氮䓬（利眠宁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hlordiazepoxide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、镇静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奥沙西泮（舒宁）（去甲羟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ox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劳拉西泮（罗拉）（氯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lo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氟西泮（氟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flur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胶囊剂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硝西泮（硝基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nitrt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氯硝西泮（氯硝基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clonazep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服：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，分次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严重失眠及兴奋时，可注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mg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睡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三唑仑（海洛神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tri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0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形成依赖快，应短期用药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艾司唑仑（舒乐安定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st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癫痫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阿普唑仑（佳乐定、佳静安定）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elprazolam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抗焦虑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 mg/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，睡前服。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巴比妥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55280" y="1773360"/>
            <a:ext cx="77770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110000"/>
              </a:lnSpc>
              <a:spcBef>
                <a:spcPts val="2001"/>
              </a:spcBef>
              <a:buClr>
                <a:srgbClr val="a50021"/>
              </a:buClr>
              <a:buFont typeface="Wingdings" charset="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Verdana"/>
                <a:ea typeface="宋体"/>
              </a:rPr>
              <a:t>巴比妥类分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效类      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详见表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短效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-711360">
              <a:lnSpc>
                <a:spcPct val="110000"/>
              </a:lnSpc>
              <a:spcBef>
                <a:spcPts val="174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超短效类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有硫喷妥钠，静注后立即生效。临床应用作为静脉麻醉，而不作催眠药使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2771640" y="2781360"/>
            <a:ext cx="216000" cy="1655640"/>
          </a:xfrm>
          <a:custGeom>
            <a:avLst/>
            <a:gdLst>
              <a:gd name="textAreaLeft" fmla="*/ 0 w 216000"/>
              <a:gd name="textAreaRight" fmla="*/ 78120 w 21600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表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12-2</a:t>
            </a: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宋体"/>
              </a:rPr>
              <a:t>常用巴比妥类的分类、作用时间和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1484280"/>
          <a:ext cx="8610480" cy="4888080"/>
        </p:xfrm>
        <a:graphic>
          <a:graphicData uri="http://schemas.openxmlformats.org/drawingml/2006/table">
            <a:tbl>
              <a:tblPr/>
              <a:tblGrid>
                <a:gridCol w="863640"/>
                <a:gridCol w="3240000"/>
                <a:gridCol w="1512720"/>
                <a:gridCol w="1654200"/>
                <a:gridCol w="133992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药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疗效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现时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作用持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催眠剂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（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/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次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a50021"/>
                      </a:solidFill>
                    </a:lnT>
                    <a:lnB w="5760">
                      <a:solidFill>
                        <a:srgbClr val="a50021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长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barbiturate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a50021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鲁米那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h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03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phenobarbital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异</a:t>
                      </a:r>
                      <a:r>
                        <a:rPr b="1" lang="zh-CN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戊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amobarbita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,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阿米妥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短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司可巴比妥（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宋体"/>
                        </a:rPr>
                        <a:t>secoharbital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速可眠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min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.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二、药理作用及作用机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9080" y="1453680"/>
            <a:ext cx="750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中枢神经系统抑制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抗惊厥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呼吸系统的作用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．对其他系统的影响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95280" y="5018040"/>
            <a:ext cx="8280360" cy="111780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34308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3314880"/>
                <a:tab algn="l" pos="3467160"/>
                <a:tab algn="l" pos="4514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长期或较大剂量应用时，不良反应大，安全性差，目前已较少应用，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DZ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所取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183528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255600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3924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493236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565164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432080" y="541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1619280" y="2924280"/>
            <a:ext cx="511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2362320" y="5334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2340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987640" y="285264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635280" y="285264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276720" y="1700280"/>
            <a:ext cx="0" cy="914400"/>
          </a:xfrm>
          <a:prstGeom prst="line">
            <a:avLst/>
          </a:prstGeom>
          <a:ln cap="sq" w="76320">
            <a:solidFill>
              <a:srgbClr val="d60093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3995640" y="2852640"/>
            <a:ext cx="60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宋体"/>
              </a:rPr>
              <a:t>苯巴比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4643280" y="2924280"/>
            <a:ext cx="609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364000" y="2924280"/>
            <a:ext cx="533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6877080" y="25653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剂 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1476360" y="2708280"/>
            <a:ext cx="5327640" cy="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4084560" y="333360"/>
            <a:ext cx="35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．中枢神经系统抑制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465264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　   随剂量加大，抑制作用由浅入深相继发生镇静、催眠、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惊厥和麻醉作用。巴比妥类药物选择性抑制脑干网状结构上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激活系统，促进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能神经的抑制性效应，增强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的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触后抑制功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187164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抗惊厥作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苯巴比妥：有效的抗惊厥药物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324000" y="3716280"/>
            <a:ext cx="8610480" cy="2521080"/>
          </a:xfrm>
          <a:prstGeom prst="rect">
            <a:avLst/>
          </a:prstGeom>
          <a:noFill/>
          <a:ln w="9360">
            <a:solidFill>
              <a:srgbClr val="cc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呼吸系统的作用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剂量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明显降低呼吸频率、呼吸深度及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气量，由于药物对延脑的抑制作用所致，是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比妥类中毒的死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．对其他系统的影响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280" y="2923920"/>
            <a:ext cx="7278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胃肠道蠕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中毒剂量引起严重低血压及心肌损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肝、肾功能均有不良影响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三、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61048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镇静催眠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巴比妥类药物小剂量应用，产生镇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作用，可用于治疗焦虑、高血压、甲状腺功能亢                         进等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抗癫痫及抗惊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药为苯巴比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．麻醉用药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：硫喷妥钠作为静脉麻醉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四、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820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后遗作用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次晨头晕、乏力、困倦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反常兴奋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兴奋、不安、严重时谵妄，以老年人常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过敏反应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有过敏史者禁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严重呼吸系统疾病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应密切观察呼吸频率和节律，注意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唇、指甲有无缺氧引起发绀等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嘱服药患者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要驾车、操作机器或登高作业，避免药物后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遗效应产生事故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服药时：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不可饮酒，否则会损伤判断力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7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耐药及依赖性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一旦停药可产生戒断反应，应短期用药，停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药应逐渐停用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8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其他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：对心血管、肝、呼吸系统均有一定的不良反应。偶见粒细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66"/>
                </a:solidFill>
                <a:latin typeface="Verdana"/>
                <a:ea typeface="宋体"/>
              </a:rPr>
              <a:t>胞缺乏症，血小板减少性紫癜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9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．急性中毒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Verdana"/>
                <a:ea typeface="宋体"/>
              </a:rPr>
              <a:t>见下页</a:t>
            </a: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．急性中毒及抢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⑴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中毒症状：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过量使用可引起中毒，血压下降，严重时昏迷，可导致死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⑵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抢救措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排除毒物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洗胃、给予盐类泻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给利尿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注射碳酸氢钠使尿碱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必要时可输血或血液透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对症治疗：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维持呼吸和血压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021"/>
                </a:solidFill>
                <a:latin typeface="Verdana"/>
                <a:ea typeface="黑体"/>
              </a:rPr>
              <a:t>生理睡眠与反跳现象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正常生理睡眠分为非快动眼睡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和快动眼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眠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两个时相。两个时相交替出现，形成睡眠周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如果药物（如巴比妥类药物）缩短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，久用停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可出现</a:t>
            </a:r>
            <a:r>
              <a:rPr b="1" lang="en-US" sz="2400" spc="-1" strike="noStrike">
                <a:solidFill>
                  <a:srgbClr val="b12217"/>
                </a:solidFill>
                <a:latin typeface="Verdana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时相反跳性延长，出现多梦和焦虑现象即反跳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12217"/>
                </a:solidFill>
                <a:latin typeface="Verdana"/>
                <a:ea typeface="宋体"/>
              </a:rPr>
              <a:t>象，导致患者有继续用药的愿望，易产生依赖性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3068640"/>
            <a:ext cx="3313440" cy="180036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12217"/>
                </a:solidFill>
                <a:latin typeface="Arial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N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稳定，无眼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球的运动，有助于体力恢复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生长发育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643280" y="3068640"/>
            <a:ext cx="3816360" cy="1728720"/>
          </a:xfrm>
          <a:prstGeom prst="rect">
            <a:avLst/>
          </a:prstGeom>
          <a:noFill/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b12217"/>
                </a:solidFill>
                <a:latin typeface="Arial"/>
                <a:ea typeface="宋体"/>
              </a:rPr>
              <a:t>REMS</a:t>
            </a:r>
            <a:r>
              <a:rPr b="1" lang="zh-CN" sz="2400" spc="-1" strike="noStrike">
                <a:solidFill>
                  <a:srgbClr val="b12217"/>
                </a:solidFill>
                <a:latin typeface="Arial"/>
                <a:ea typeface="宋体"/>
              </a:rPr>
              <a:t>时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、循环功能加强，眼球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运动活跃，翻身、手足徐动、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梦等，有利于智力恢复和发育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五、药物相互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610480" cy="313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与乙醇或其他中枢神经系统抑制剂均有协同作用，甚至加重毒性反应，因此不宜联合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巴比妥类有肝药酶诱导作用，不仅加速其本身的代谢，还可加速香豆素类抗凝药、苯妥英钠和皮质激素等的代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三节   其他镇静催眠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思诺思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stilnox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可缩短入睡时间，减少中途觉醒次数，延长睡眠时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偶发性、暂时性及慢性失眠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不良反应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常见：眩晕、嗜睡、乏力、恶心、头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少见：记忆障碍、恶梦、烦躁、腹泻及精神压抑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耐药性：较少见，但不主张长期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禁用：孕妇、哺乳期妇女、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岁以下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Verdana"/>
                <a:ea typeface="宋体"/>
              </a:rPr>
              <a:t>慎用：肝功能不良、呼吸功能不良以及肌无力患者、操作机 械及驾车者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1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佐匹克隆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Zopiclo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en-US" sz="24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特点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此药吸收快，达峰时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1.0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,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，肝硬化及老年患者可延长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各种失眠，对入睡时间的缩短，睡眠时间延长以及睡眠质量的提高均有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  <a:ea typeface="宋体"/>
              </a:rPr>
              <a:t>不良反应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部分病人：口干、口苦、恶心、便秘、晨间嗜睡、肌无力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长期用药：突然停药可出现戒断症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禁用：严重呼吸功能不全，本药过敏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慎用：孕妇及哺乳期妇女，肝功能不良者慎用或减量服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精神药品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精神药品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作用于中枢神经系统使之兴奋或者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制，具有依赖性潜力，不合理使用或者滥用可以产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药物依赖性的药品或者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第一类精神药品和第二类精神药品，其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、运输、经营及储存均要严格按照国务院颁布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麻醉药品和精神药品管理条例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执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三唑仑、司可巴比妥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属于第一类精神药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其余（佐匹克隆除外）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均为第二类精神药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2492280"/>
            <a:ext cx="8610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为什么说地西泮是目前临床最常用的催眠药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如何预防地西泮产生耐受性和依赖性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．巴比妥类药物急性中毒的抢救措施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常用镇静催眠药分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719440" y="1814400"/>
            <a:ext cx="47512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苯二氮卓类：地西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巴比妥类：苯巴比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新型催眠药：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酒石酸唑吡坦片（</a:t>
            </a:r>
            <a:r>
              <a:rPr b="1" lang="zh-CN" sz="2800" spc="-1" strike="noStrike">
                <a:solidFill>
                  <a:srgbClr val="b12217"/>
                </a:solidFill>
                <a:latin typeface="Verdana"/>
                <a:ea typeface="宋体"/>
              </a:rPr>
              <a:t>思诺思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苯二氮卓类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3948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常用药物</a:t>
            </a:r>
            <a:r>
              <a:rPr b="1" lang="en-US" sz="3200" spc="-1" strike="noStrike">
                <a:solidFill>
                  <a:srgbClr val="cc0000"/>
                </a:solidFill>
                <a:latin typeface="Verdana"/>
                <a:ea typeface="宋体"/>
              </a:rPr>
              <a:t>--</a:t>
            </a: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各种苯二氮卓类药物作用相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地西泮（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氯氮卓（利眠宁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硝西泮（硝基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艾司唑仑（舒乐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cc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阿普唑仑（佳静安定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932360" y="270828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氯硝西泮（氯硝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氟西泮（氟安定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三唑仑（海乐神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劳拉西泮（罗拉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a50021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奥沙西泮（舒宁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77040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宋体"/>
              </a:rPr>
              <a:t>（一）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血药浓度达峰值，但肌内注射吸收慢，如需肌注可选用氯销安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血浆蛋白结合，其结合率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9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吸收后，迅速为脑组织及其其他器官摄取，然后再分布至肌肉、脂肪等组织；可通过胎盘，进入胎儿循环，影响新生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要由肝代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经肾排泄，也可经母乳、胆汁排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成人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新生儿由于肝功能发育不完善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延长可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；老年人、肝肾疾患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延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0000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一、 地西泮（安定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3080" y="2606400"/>
            <a:ext cx="504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焦虑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镇静催眠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抗惊厥和抗癫痫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中枢骨骼肌松弛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其他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385160" y="302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（二）药理作用和作用机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．抗焦虑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小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减轻或消除焦虑不安，精神紧张及恐惧，对各种原因引起的焦虑症状有显著疗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作用机制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中枢神经系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r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能神经末梢的突触后膜上的苯二氮卓受体结合后，可改变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调控蛋白的构象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其受体的亲和力，激活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受体，使氯离子通道开放，增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能神经的抑制效应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BDZ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药物增强中枢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递质的抑制作用与其镇静、抗焦虑、催眠、抗惊厥及中枢性肌松作用密切相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．镇静催眠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中等剂量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镇静催眠作用明显，对各期睡眠均有不同程度的影响。可缩短入睡时间，延长睡眠持续时间，减少觉醒次数目前已是临床最常用催眠药。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Verdana"/>
                <a:ea typeface="宋体"/>
              </a:rPr>
              <a:t>优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巴比妥类催眠药相比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411280" y="3860640"/>
            <a:ext cx="5400720" cy="2448000"/>
          </a:xfrm>
          <a:prstGeom prst="wedgeRectCallout">
            <a:avLst>
              <a:gd name="adj1" fmla="val -72486"/>
              <a:gd name="adj2" fmla="val -69129"/>
            </a:avLst>
          </a:prstGeom>
          <a:solidFill>
            <a:srgbClr val="c4e3ee"/>
          </a:solidFill>
          <a:ln w="9360">
            <a:solidFill>
              <a:srgbClr val="a50021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①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呼吸影响小，大剂量不引起麻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②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肝药酶无诱导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嗜睡等副作用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④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耐受性和依赖性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cc0000"/>
                </a:solidFill>
                <a:latin typeface="Arial"/>
                <a:ea typeface="宋体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停药后反跳现象比巴比妥类轻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2:23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